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2036E-62F3-4763-B3C0-620224CC0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73514-D61B-4FEC-880E-104BA7D0B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622F8-7D73-4E28-903F-A8FD48374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AD864-02D2-4179-A0A0-334FFA2C0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FCBBD-F234-42A6-B699-5064C02B1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E824A-0394-46E0-BB68-6B47482B6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72406-7232-4E36-AB85-8BD434117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E8BEF-F5EB-4981-A026-5946CF3CB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CAFD3-9094-4D09-B6EB-F7F38056B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3D2C5-EF4E-4F66-8AAF-B06BF138C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8ECB8-BE9A-4578-B4FB-00E8A78A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CDCA9-1E0C-4CE1-BEA0-AA4BE6AFE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1CAB9-9EC6-40FC-A20A-ACF11E2B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50A55-45AE-46CC-9EDA-95188EDC3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1B4F6-6A6B-444F-8D9D-8E4F0D213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1B58A-F10E-4FC9-8671-D08E96E71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1525B-DD42-4B17-87F5-EE88B59BB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A0160-D55B-40D8-A0BF-E7E74C9DC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7485C-54E9-4001-A9FB-744F40C40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CF79F-7EF7-46D9-AD3E-39E984D72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42EFA-FCAE-483F-BF4B-38C70A402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3E26E-A140-4241-91E9-D064F82DC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14FC5-D294-4705-8EAD-64B6600E7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B389D-739D-42ED-A2FE-BAEF4C5F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c2c2c2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bababa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adada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5d5d5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5d5d5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c0c0c0"/>
                </a:gs>
                <a:gs pos="50000">
                  <a:srgbClr val="c1c1c1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900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DA3B1-0B4D-43ED-8A87-5883E23DC5C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c2c2c2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bababa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adada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5d5d5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5d5d5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c0c0c0"/>
                </a:gs>
                <a:gs pos="50000">
                  <a:srgbClr val="c1c1c1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7BE09-2DD7-4E9E-B92C-1549CDE6A97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5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6668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Century Gothic"/>
              </a:rPr>
              <a:t>Las Comidas</a:t>
            </a:r>
            <a:endParaRPr b="0" lang="en-US" sz="4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y: Laura Bradsha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ff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Rockwell"/>
              </a:rPr>
              <a:t>Desayuno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1523880" cy="14954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80880" y="33526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Rockwell"/>
              </a:rPr>
              <a:t>Brind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095880" y="1828800"/>
            <a:ext cx="2095560" cy="13971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095880" y="33526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Rockwell"/>
              </a:rPr>
              <a:t>Huevos Sunnys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3581280" y="2514600"/>
            <a:ext cx="1638360" cy="15289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352680" y="457200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505320" y="41148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Rockwell"/>
              </a:rPr>
              <a:t>Toc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533520" y="4114800"/>
            <a:ext cx="1752480" cy="1541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33520" y="5791320"/>
            <a:ext cx="16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Rockwell"/>
              </a:rPr>
              <a:t>Manz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6400800" y="4114800"/>
            <a:ext cx="1494000" cy="17431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400800" y="594360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Rockwell"/>
              </a:rPr>
              <a:t>Jugo de manz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Felix Titling"/>
              </a:rPr>
              <a:t>Almuerzo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1752480" cy="11667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09480" y="236232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elix Titling"/>
              </a:rPr>
              <a:t>SÁndwi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705720" y="1371600"/>
            <a:ext cx="1828800" cy="10796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705720" y="25146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elix Titling"/>
              </a:rPr>
              <a:t>Papas Fri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990720" y="4191120"/>
            <a:ext cx="1396800" cy="13968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990720" y="563868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elix Titling"/>
              </a:rPr>
              <a:t>Ensalada Ceas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7086600" y="4343400"/>
            <a:ext cx="1305000" cy="15238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7086600" y="59436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elix Titling"/>
              </a:rPr>
              <a:t>Jugo de manz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5"/>
          <a:stretch/>
        </p:blipFill>
        <p:spPr>
          <a:xfrm>
            <a:off x="3733920" y="2362320"/>
            <a:ext cx="1904760" cy="14904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809880" y="3886200"/>
            <a:ext cx="17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elix Titling"/>
              </a:rPr>
              <a:t>Naran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La Cena</a:t>
            </a: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1876320" cy="13809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762120" y="28195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ollo Parmez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6095880" y="1523880"/>
            <a:ext cx="2210040" cy="14623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6324480" y="3124080"/>
            <a:ext cx="17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3733920" y="2819520"/>
            <a:ext cx="1914480" cy="14382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733920" y="44197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eget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1143000" y="4038480"/>
            <a:ext cx="1600200" cy="14558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143000" y="556272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ur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é de Pap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5"/>
          <a:stretch/>
        </p:blipFill>
        <p:spPr>
          <a:xfrm>
            <a:off x="6934320" y="3886200"/>
            <a:ext cx="1125360" cy="19810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6934320" y="59436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ca  Co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12:07:50Z</dcterms:created>
  <dc:creator>bradshawlau</dc:creator>
  <dc:description/>
  <dc:language>en-US</dc:language>
  <cp:lastModifiedBy>bradshawlau</cp:lastModifiedBy>
  <dcterms:modified xsi:type="dcterms:W3CDTF">2011-04-14T18:10:26Z</dcterms:modified>
  <cp:revision>3</cp:revision>
  <dc:subject/>
  <dc:title>Las Comidas</dc:title>
</cp:coreProperties>
</file>